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A5A-00AE-41A9-AFD3-5B33B882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F83-3BF7-4F33-BB34-CCA1790F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D82E-6BC2-4C63-82B2-5042AE7D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6D0-3CFE-4275-9D64-94AAAD60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B69E-744C-4BF5-AA62-8095693F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BA34-1DF0-4140-9AFF-52EB3100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B023-9552-4ACE-BA53-9AD7813A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380D-56A1-44F1-915F-AF705215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C506-9DA5-4252-8CF6-EE8C3614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DED2-0A0D-4C35-A85A-A1B15105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80D8-A59C-40E6-B163-100A41AF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43B-605A-41D6-AF52-367079E3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1DD2-0FFE-4972-96A2-1D47DFAE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3E88-CFC6-423C-B13A-9046B6B6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383D-131A-43BB-9DD1-8A06892D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B15B-D32B-4184-9C29-8835152D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B292-A93C-4D35-9124-62368F13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466-0EF0-44F1-B097-25A14340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7F1-C70F-4560-91D2-45E89B0A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DF8-8C02-49C6-A240-DE865C74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0EC-2A38-4D7E-BA24-F1A3A28F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81D-15F2-4BDD-BE06-F5A816D0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6FF-7EE7-4A30-8443-FE30277C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DF84-63E7-4655-9DE9-EAD5BFB2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24B7-2522-40B0-BF43-3129C11982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4745-D56F-4786-8305-DC10A4BAF6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BIG SIX : </a:t>
            </a:r>
            <a:br>
              <a:rPr sz="4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pro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not knowing somet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now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asure Hu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219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2438280"/>
            <a:ext cx="2743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2590920"/>
            <a:ext cx="44197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274320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057040" y="289548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asure Hu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240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2514600"/>
            <a:ext cx="289548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495680" y="2514600"/>
            <a:ext cx="76320" cy="243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514240" y="251460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495680" y="3124080"/>
            <a:ext cx="152424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90560" y="3124080"/>
            <a:ext cx="342900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2895120" y="2590560"/>
            <a:ext cx="312444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590560" y="4191120"/>
            <a:ext cx="48006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2895120" y="2743200"/>
            <a:ext cx="449604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2819160" y="2742840"/>
            <a:ext cx="160020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ow does this relate to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arching for information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266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arching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283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121932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as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formation need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arching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301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121932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as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formation need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162920" y="2209680"/>
            <a:ext cx="1752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Possible sourc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he bes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arching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320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05520" y="121932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as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formation need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162920" y="2209680"/>
            <a:ext cx="1752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Possible sources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he bes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96080" y="3429000"/>
            <a:ext cx="1447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re’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sour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re’s inf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n sour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arching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340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121932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as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formation need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162920" y="2209680"/>
            <a:ext cx="1752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Possible sources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he bes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96080" y="3429000"/>
            <a:ext cx="1447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re’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sour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re’s inf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n sour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5562720"/>
            <a:ext cx="2362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Best use of sourc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at info is usefu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arching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361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121932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as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formation need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162920" y="2209680"/>
            <a:ext cx="1752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Possible sourc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he bes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3429000"/>
            <a:ext cx="1447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re’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sour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re’s inf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n sour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781680" y="5562720"/>
            <a:ext cx="2362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Best use of sourc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at info is usefu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548640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Organize &amp; synthe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Sh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arching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383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05520" y="121932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as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formation need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162920" y="2209680"/>
            <a:ext cx="1752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Possible sourc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he bes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96080" y="3429000"/>
            <a:ext cx="1447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re’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sour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re’s inf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in sour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781680" y="5562720"/>
            <a:ext cx="2362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Best use of sourc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at info is usefu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548640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Organize &amp; synthe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Sh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1523880"/>
            <a:ext cx="1447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s task do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Bett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Searching for information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like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HUNTING FOR TREASU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go on a treasure hun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ourc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ources?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yclopedias, Articles, Non-fiction books, Peopl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Websites, Organiz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ources?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yclopedias, Articles, Non-fiction books, Peopl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Websites, Organiz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ources?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yclopedias, Articles, Non-fiction books, Peopl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Websites, Organiz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sourc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Pioneer, Using library catalog, Evaluating web sit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ources?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yclopedias, Articles, Non-fiction books, Peopl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Websites, Organiz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sourc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Pioneer, Using library catalog, Evaluating web sit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ources?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yclopedias, Articles, Non-fiction books, Peopl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Websites, Organiz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sourc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Pioneer, Using library catalog, Evaluating web sit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inform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ing, Skimming, Taking notes, Interviewing, Index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Table of contents, Captions, Charts and graphs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Copyright issues, Plagiarism, Matching info with need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ources?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yclopedias, Articles, Non-fiction books, Peopl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Websites, Organiz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sourc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Pioneer, Using library catalog, Evaluating web sit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inform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ing, Skimming, Taking notes, Interviewing, Index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Table of contents, Captions, Charts and graphs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Copyright issues, Plagiarism, Matching info with need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nthe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ources?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yclopedias, Articles, Non-fiction books, Peopl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Websites, Organiz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sourc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Pioneer, Using library catalog, Evaluating web sit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inform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ing, Skimming, Taking notes, Interviewing, Index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Table of contents, Captions, Charts and graphs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Copyright issues, Plagiarism, Matching info with need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nthesiz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point, Word processing, Posters, Images, Six traits of writing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Bibliographies, Oral present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ources?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yclopedias, Articles, Non-fiction books, Peopl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Websites, Organiz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sourc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Pioneer, Using library catalog, Evaluating web sit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inform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ing, Skimming, Taking notes, Interviewing, Index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Table of contents, Captions, Charts and graphs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Copyright issues, Plagiarism, Matching info with need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nthesiz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point, Word processing, Posters, Images, Six traits of writing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Bibliographies, Oral present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asure Hu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55760" y="1822320"/>
            <a:ext cx="5807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2057400"/>
            <a:ext cx="55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you need fir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asure Hu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asure Hu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asure Hu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asure Hu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175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asure Hu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188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asure Hu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202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4:56:51Z</dcterms:created>
  <dc:creator>OHMS</dc:creator>
  <dc:description/>
  <dc:language>en-US</dc:language>
  <cp:lastModifiedBy>OHMS</cp:lastModifiedBy>
  <dcterms:modified xsi:type="dcterms:W3CDTF">2009-01-21T17:13:58Z</dcterms:modified>
  <cp:revision>6</cp:revision>
  <dc:subject/>
  <dc:title>The BIG SIX :  Information Problem-Solving Skills</dc:title>
</cp:coreProperties>
</file>